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B50-F97D-409B-9D8E-FE9A3E41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AB1-6967-43CD-86F8-C026FEB3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35D-E42B-4C32-875D-96F2D7DF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1307-DEAE-47B5-A67D-DD7BAEC3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F18D-1856-40BF-B506-14DA60CB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01F6-E77B-4D66-A599-63299E88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470B-74E6-433F-BE7A-A4117E4B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7C89-5C5F-4D37-BBDF-86E22BD8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77F6-D653-40A0-816E-86984528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E38B-F836-4938-8CF9-596CC133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0BE1-F9B8-4EF6-81AB-7B0B570C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5938-10B5-48CA-9A14-D0ACFF31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71B0-8186-4026-8791-76E4BB43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8C4B-8B43-4139-A1A0-2AEE092B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676F-19B9-46B0-B28A-041F03C2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E335-8B57-422D-B794-04E86AB4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E6F9-3331-41EE-8DCE-8B97CC74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12B-DA7C-4EEA-BE03-9CD2E21E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3CEF-FABC-463F-AAE3-252B59B8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E6E7-D0EB-4655-9364-16ADC522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1FC-D79E-4BB4-AD2E-84AB7DD6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D3D-1CCD-4390-BBD3-407A6D4A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F443-73CE-4B40-B084-DBDF8514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798-BB51-47D2-BA47-5E53774C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E6DA-1060-44F6-B53C-C8198493BD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4790-AA2E-482A-90D6-C0164B1B33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MERGENCY DEPARTMENT ULTRASOUND BAS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CRMC - June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Right Upper Quadra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rison’s pouch a potential space between Gerota’s facia and Glison’s caps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e area of lower rib cage anterior to midaxillary line marker pointed cephal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id appears as anechoic stripe and is a positive fi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RUQ (Morrison’s Pouch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2971800" cy="246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9880" y="1219320"/>
            <a:ext cx="2819520" cy="2641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809880" y="4114800"/>
            <a:ext cx="2819520" cy="246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609480" y="495288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Hepato-Renal Re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1523880"/>
            <a:ext cx="18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id in Morrison’s Pou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62320" y="52578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hepatic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173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88760" y="5867280"/>
            <a:ext cx="135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Left Upper Quadra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space between spleen and 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e oriented mid to posterior axillary line over lower left costal mar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id appears as anechoic stripe between spleen ad 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Q and RUQ views have capability of detecting hemothorax (anechoic fluid above diaphrag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100" spc="-1" strike="noStrike">
                <a:solidFill>
                  <a:srgbClr val="b2b2b2"/>
                </a:solidFill>
                <a:latin typeface="Arial"/>
              </a:rPr>
              <a:t> - LUQ (Spleenorenal Space)</a:t>
            </a:r>
            <a:endParaRPr b="0" lang="en-US" sz="41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956040" cy="334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340080" cy="4190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685800" y="510552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 Spleno-Renal Re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91800" y="556272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leno-Renal Free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3240" y="5715000"/>
            <a:ext cx="365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NB:  Remember to also ch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ff00"/>
                </a:solidFill>
                <a:latin typeface="Arial"/>
              </a:rPr>
              <a:t>Spleno-Diaphragmatic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50680" y="6019920"/>
            <a:ext cx="135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Pelvic 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space between rectum and uterus (pouch of Dougl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space between rectum and bladder (rectovesicular spa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id anechoic stripe with well defined b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ntuated by full bladder - check PRIOR to Foley 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Pelvic 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581280" y="3657600"/>
            <a:ext cx="2286000" cy="2028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172200" y="3886200"/>
            <a:ext cx="2590920" cy="182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09480" y="1371600"/>
            <a:ext cx="2438640" cy="1870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80880" y="3809880"/>
            <a:ext cx="2819520" cy="1824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3886200" y="1676520"/>
            <a:ext cx="2209680" cy="1287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6404760" y="198108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 - no free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5520" y="6019920"/>
            <a:ext cx="314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ree Fluid =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rdiac Eval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seless electrical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cardial tampon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Finding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wall 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cardial ef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erance:Effusions echo free areas within pericardial s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effusions &lt; 100 ml dependent posi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usions &gt; 300 ml visualized both anteriorly and posterio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bxyphoid View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724280" y="2457360"/>
            <a:ext cx="4038840" cy="2814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4038840" cy="3097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440" y="57913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out Pericardial Eff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4400" y="57913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icardial Eff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bdominal Aortic Aneurys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trasonography as accurate as CT when measuring aortic dia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ebral spine is landm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n from diaphragm to distal bifur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from outside wall to outside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meter &gt;3 cm is ab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C to right, thinner walls, compresses with probe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 in both transverse and saggital plan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A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1828800" cy="197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657600" y="2209680"/>
            <a:ext cx="1943280" cy="2001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531120" y="2209680"/>
            <a:ext cx="1695240" cy="1981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746280" y="4538520"/>
            <a:ext cx="1844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VC at liver border just superficial to spine and Aorta adjac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4572000"/>
            <a:ext cx="1844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a at level of the celiac artery showing hepato-splenic branch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572000"/>
            <a:ext cx="1844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mon iliacs adjacent to the IVC just distal to branch poi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undament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 created by high frequency sound w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for reflection indicates depth of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ect reflectors appear white (hyperecho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ect transmitters appear black (anecho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Low frequen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ves:  poor resolution,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good penetr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penetrate subcutaneous fa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High frequen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ves:  </a:t>
            </a: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good resolution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or penetration (better image if penetration not an issu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rinary Obstru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ey contains two distinct sonographic re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Sinus: center of kidney -  hyperechoic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Cortex: periphery - much less echoge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nephrosis - anechoic area w/in renal si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al Cysts: round thin-walled anecohic structures located in renal cort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eteral calculi not well visualized (19% of all documented stones, CT 94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Retention - post-void residual &gt;200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rmal Renal Ima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920" y="1663560"/>
            <a:ext cx="4343400" cy="3598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76920" y="1739880"/>
            <a:ext cx="3809880" cy="344160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ydronephro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081840" cy="1933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2716200" cy="2198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429000" y="3657600"/>
            <a:ext cx="2363760" cy="221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095880" y="3505320"/>
            <a:ext cx="2667240" cy="2190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llbladder Disea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ing modality of choi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sonographic finding gall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r as echolucent structures within gallbladder that move with position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sonographic Murphy's sig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point of maximal tenderness to transducer pressure is directly over sonographically located gallbladder. (92% positive predictive val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llbladder wall thickening: &gt;3  mm (occurs 50-75% with acute cholecystitis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llbladd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2971800" cy="241308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3048120" cy="234648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533520" y="4114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alculous Gallblad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396252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llbladder Calculi - note acoustic sha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514600" y="3733920"/>
            <a:ext cx="3733920" cy="2292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olecystit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181480" cy="4611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990720" y="609588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TE: Stone shadowing &amp; gallbladder wall thick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dden Loss of Vi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2590560" cy="223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2971800" cy="2228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1678320" y="3581280"/>
            <a:ext cx="55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ffected eye is used for comparis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2362320" y="4191120"/>
            <a:ext cx="350496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irst Trimester Pregnanc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first trimester pregnant patients presenting with abdominal/pelvic pain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aginal bleeding require ultrasound to locate pregna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stational sac, round or oval anechoic area surrounded by two concentric echogenic  rings (double decidual sign) earliest sonographic finding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uggestiv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I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CONCLUSIVE evidence - yolk sac, fetal pole, or F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vaginal: detection as early as 4.5 weeks after LMP beta-HCG &gt;2000 mIU/ml (discriminatory zo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bdominal: detection 5.5-6 weeks post L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without CONCLUSIVE evidence of IUP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egardles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of beta-HCG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ble with minimal discomfort - home w/close follow-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stable vitals or significant pain - Immediate GYN con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irst Trimester Pregnanc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520" y="1257480"/>
            <a:ext cx="3429000" cy="2597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3429000" cy="2360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419720" y="1295280"/>
            <a:ext cx="3429000" cy="2595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419720" y="4114800"/>
            <a:ext cx="3276360" cy="248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ditional Applic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ance in performing para/thoracentesis and placement of central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ction of foreign bodies (wood,glass,metal and plas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 of fluid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ction of joint effusions &amp; abs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bladder volume prior to c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NDICATIONS &amp; KEY FINDING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uma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moperitoneum, hemopericar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a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activity, pericardial effusion/tamponade, fluid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ominal Aortic Aneurysms / Dis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meter &gt; 3 cm, intimal flap, hemoperitone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nephr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pected stone, bladder outlet ob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da Equina, Urinary Re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-void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NDICATIONS &amp; KEY FINDING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llbladder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llstones, wall thickening, pericholecystic fluid, sonographic Murph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dden Loss of 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inal detach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Trimester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uterine pregnancy, free fl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ra/para/pericardiocentesis, line placement, bladder catheter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IENT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e marker corresponds to images on left side of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verse planes: marker oriented towards patients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ggital planes: marker oriented towards patients 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343400" y="4191120"/>
            <a:ext cx="281952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oustic Shadow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trasound waves blocked by echogenic structures create an anechoic area distal to the obstruction. Acoustic shadow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EXA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use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domina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ography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u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inva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reparation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xposure to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uracy equal to DPL in detecting hemoperitoneum (Sensitivity 90% Specificity9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raperitoneal Fluid Distribu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638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Standard View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4343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Standard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xiph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upper quadr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upper quadr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lv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682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23:12:58Z</dcterms:created>
  <dc:creator>mark serra</dc:creator>
  <dc:description/>
  <dc:language>en-US</dc:language>
  <cp:lastModifiedBy>Steinhart Rachel</cp:lastModifiedBy>
  <cp:lastPrinted>2009-05-22T04:35:55Z</cp:lastPrinted>
  <dcterms:modified xsi:type="dcterms:W3CDTF">2009-06-05T23:34:39Z</dcterms:modified>
  <cp:revision>19</cp:revision>
  <dc:subject/>
  <dc:title>PRINCIPLES OF EMERGENCY DEPARTMENT SONGRAPHY</dc:title>
</cp:coreProperties>
</file>